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111-D794-4D4F-B832-5401D8F8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F29-C69E-4B36-91F7-D5C8306D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A1E-A534-4F0D-BE38-05C32A3D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9A7-F168-444A-86B9-CFF08566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528-4C3F-4611-8613-77BD18DD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17B-DDE9-4CD3-9A1A-650EBCA7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836-DF12-405A-B742-2185AEFD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CAD-C5D6-41F3-86F3-7F086080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B8D-E384-408B-B478-9FEC5C46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138-B4FE-420E-86C7-250628F2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0B9-35E9-4D76-9AB0-E21B4C6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5F7-FB97-4C4B-861C-D4C7D06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2497-754C-4101-A033-0B862E281F8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3 Weather and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42920" y="1571760"/>
            <a:ext cx="66931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cip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Ha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le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lls us the average weather conditions of a certain place over a long period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 and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difference between the tw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inook- a warm wind that blows East from the Rockies to evaporate Calgary’s snow with little or no tr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eathe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ers to the day to day conditions in the Earth’s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find out about weather we check measurements of its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40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280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6212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696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064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483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41:26Z</dcterms:created>
  <dc:creator>Jason</dc:creator>
  <dc:description/>
  <dc:language>en-US</dc:language>
  <cp:lastModifiedBy>Jason</cp:lastModifiedBy>
  <dcterms:modified xsi:type="dcterms:W3CDTF">2010-09-29T12:38:29Z</dcterms:modified>
  <cp:revision>3</cp:revision>
  <dc:subject/>
  <dc:title>1.3 Weather and Climate</dc:title>
</cp:coreProperties>
</file>